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9.wmf" ContentType="image/x-wmf"/>
  <Override PartName="/ppt/media/image14.jpeg" ContentType="image/jpeg"/>
  <Override PartName="/ppt/media/image1.jpeg" ContentType="image/jpeg"/>
  <Override PartName="/ppt/media/image10.jpeg" ContentType="image/jpeg"/>
  <Override PartName="/ppt/media/image5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7013-F347-414B-AD38-70BBEC4A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9E8-978C-4AD7-8D01-9A7F830D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473-F69D-4330-88AE-7682C014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765-99F1-40C0-8939-371B0CB6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D8654-4716-4D0E-B82B-0C0232F6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BBFFC-2894-443A-BDCD-6D968A2A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409E0-8879-42B3-BCAA-4611FE43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435C8-0A20-40A4-8D87-A432B935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20DD7-CC32-40F9-A9D4-15522675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A667D-0DDA-4216-8019-5417CA38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634B-4B17-4D02-87A4-7C4502A7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5C66-679E-4DE9-85F8-1F0A5F3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93F87-CB80-4C02-BFA5-9255A65A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54BC-99B9-4662-9236-DF1C3D3F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C77CE-5F2E-4A8E-8AA3-2774B3C3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F5FBE-A421-445D-B27F-F1CA9486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BCCFF-C145-49A7-9C8A-6A823FC79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B37-359C-4C28-BDB4-07D1865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66B-29D0-4D0F-BFB2-B0A5204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4A0-A5AD-4896-B2CA-CC9164FC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598F-30ED-4E65-8BD1-6747B87A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6ABC-19A0-4FFC-AB6F-D9F168F7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BD5F-193D-499D-BFDE-F9BF96C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058-B97D-4C33-85C0-FD8820D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FBFA-B667-4C92-B738-47EF4D5F4B4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95EE-98DB-4F4E-9709-16ED56C8A3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openMap=true&amp;ethylCobjId=992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openMap=true&amp;ethylCobjId=992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Map of Germa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1295280"/>
            <a:ext cx="4438800" cy="3333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228960" y="99072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Kapitel 9 Project: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eutsch Trip!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ch schlage vor dass..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eidelberg!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Ellie Frysz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od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MC900189571[1]"/>
          <p:cNvPicPr/>
          <p:nvPr/>
        </p:nvPicPr>
        <p:blipFill>
          <a:blip r:embed="rId3"/>
          <a:stretch/>
        </p:blipFill>
        <p:spPr>
          <a:xfrm>
            <a:off x="304920" y="3429000"/>
            <a:ext cx="3822480" cy="29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MC900439806[1]"/>
          <p:cNvPicPr/>
          <p:nvPr/>
        </p:nvPicPr>
        <p:blipFill>
          <a:blip r:embed="rId4"/>
          <a:stretch/>
        </p:blipFill>
        <p:spPr>
          <a:xfrm rot="1914600">
            <a:off x="2819160" y="297180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s kostet Meine Urlaub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743200" y="15235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39.39 euros fur der Flugze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9.95 euros fur meine Ho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euros fur der Bah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450 fur amentit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lugzeug/ ticket von und nach Detroit-Frankfu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0" t="14356" r="47288" b="18063"/>
          <a:stretch/>
        </p:blipFill>
        <p:spPr>
          <a:xfrm>
            <a:off x="457200" y="1523880"/>
            <a:ext cx="4191120" cy="4800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ine Mutti und ich kaufe eine Flugticket aus Detroit und um Frandfurt Flugplat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 kostet 1839.80 Americana $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h habe 911.57euros ubri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er Ubah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11113" t="10100" r="12037" b="27148"/>
          <a:stretch/>
        </p:blipFill>
        <p:spPr>
          <a:xfrm>
            <a:off x="0" y="1295280"/>
            <a:ext cx="5029200" cy="446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h kaufe eine ubahn Bahnticket. Er Kostet: 27 euro von Frankfurt Flughafen, zu Heidelberg und die Abenteu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hr kleine gel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ein Deutschland Reise und Landeskunde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4" descr="Map of German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2800" y="1625760"/>
            <a:ext cx="5918400" cy="4444920"/>
          </a:xfrm>
          <a:prstGeom prst="rect">
            <a:avLst/>
          </a:prstGeom>
          <a:ln w="0">
            <a:noFill/>
          </a:ln>
        </p:spPr>
      </p:pic>
      <p:sp>
        <p:nvSpPr>
          <p:cNvPr id="135" name="Line 5"/>
          <p:cNvSpPr/>
          <p:nvPr/>
        </p:nvSpPr>
        <p:spPr>
          <a:xfrm>
            <a:off x="1828800" y="2971800"/>
            <a:ext cx="2057400" cy="144792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3962520" y="4419720"/>
            <a:ext cx="0" cy="380880"/>
          </a:xfrm>
          <a:prstGeom prst="line">
            <a:avLst/>
          </a:prstGeom>
          <a:ln w="349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 Heidelberg, wir will…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suchen Der shorn Schloss Garten, und unter dem Stattdo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 essen in dem Schillers café! Und essen hinter Die Berg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5" descr="HeidelbergSchloss-Mende-retouch1"/>
          <p:cNvPicPr/>
          <p:nvPr/>
        </p:nvPicPr>
        <p:blipFill>
          <a:blip r:embed="rId1"/>
          <a:stretch/>
        </p:blipFill>
        <p:spPr>
          <a:xfrm>
            <a:off x="838080" y="3124080"/>
            <a:ext cx="3036960" cy="354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2687760_2_b"/>
          <p:cNvPicPr/>
          <p:nvPr/>
        </p:nvPicPr>
        <p:blipFill>
          <a:blip r:embed="rId2"/>
          <a:stretch/>
        </p:blipFill>
        <p:spPr>
          <a:xfrm>
            <a:off x="5029200" y="3733920"/>
            <a:ext cx="333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der, im Heidelberg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…. Essen kuchen vor der Innerstadt vor Heidelberg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…. Besuchen sehr gut Deutsch Kunts mit meine mutti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j0215941"/>
          <p:cNvPicPr/>
          <p:nvPr/>
        </p:nvPicPr>
        <p:blipFill>
          <a:blip r:embed="rId1"/>
          <a:stretch/>
        </p:blipFill>
        <p:spPr>
          <a:xfrm>
            <a:off x="152280" y="2895480"/>
            <a:ext cx="1965600" cy="2346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215934"/>
          <p:cNvPicPr/>
          <p:nvPr/>
        </p:nvPicPr>
        <p:blipFill>
          <a:blip r:embed="rId2"/>
          <a:stretch/>
        </p:blipFill>
        <p:spPr>
          <a:xfrm>
            <a:off x="2286000" y="3048120"/>
            <a:ext cx="2209680" cy="199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" descr="C:\Users\kfrysztak\AppData\Local\Microsoft\Windows\Temporary Internet Files\Content.IE5\HXDJR8A5\MP900427819[1].jpg"/>
          <p:cNvPicPr/>
          <p:nvPr/>
        </p:nvPicPr>
        <p:blipFill>
          <a:blip r:embed="rId3"/>
          <a:stretch/>
        </p:blipFill>
        <p:spPr>
          <a:xfrm>
            <a:off x="4505400" y="2879640"/>
            <a:ext cx="2073240" cy="2073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C:\Users\kfrysztak\AppData\Local\Microsoft\Windows\Temporary Internet Files\Content.IE5\N2CS91BV\MC900446082[1].wmf"/>
          <p:cNvPicPr/>
          <p:nvPr/>
        </p:nvPicPr>
        <p:blipFill>
          <a:blip r:embed="rId4"/>
          <a:stretch/>
        </p:blipFill>
        <p:spPr>
          <a:xfrm>
            <a:off x="6934320" y="2422440"/>
            <a:ext cx="1758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m, Heidelberg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 werden gehen zu Heidelberg Universitat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hh, wirklich shor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93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hhhh, Heidelberg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2" descr="http://upload.wikimedia.org/wikipedia/commons/3/31/Heidelberg_night.jpg"/>
          <p:cNvPicPr/>
          <p:nvPr/>
        </p:nvPicPr>
        <p:blipFill>
          <a:blip r:embed="rId1"/>
          <a:stretch/>
        </p:blipFill>
        <p:spPr>
          <a:xfrm>
            <a:off x="1981080" y="1143000"/>
            <a:ext cx="52912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t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0" t="10100" r="23150" b="30773"/>
          <a:stretch/>
        </p:blipFill>
        <p:spPr>
          <a:xfrm>
            <a:off x="152280" y="1219320"/>
            <a:ext cx="4343400" cy="51814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r Hotel koste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9.72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on 3 Tag im Leonardo Hote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s hotel gibt es ein gross und Luxus Spa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s gibt es eine gross Esszimmer neben der Lobby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der, es gibt sehr gut schlafen!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801.85 Eu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02:00Z</dcterms:created>
  <dc:creator>CUSD220</dc:creator>
  <dc:description/>
  <dc:language>en-US</dc:language>
  <cp:lastModifiedBy>NNagel</cp:lastModifiedBy>
  <dcterms:modified xsi:type="dcterms:W3CDTF">2012-01-09T14:01:15Z</dcterms:modified>
  <cp:revision>15</cp:revision>
  <dc:subject/>
  <dc:title>Kapitel 9 Project: Deutsch Trip</dc:title>
</cp:coreProperties>
</file>